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5FDC-B75B-4B51-85A7-5970B0A4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8BB-3252-48DE-AD6B-394D94E3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8EA-014F-420C-B1C1-C7064A57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5E5-F297-4A84-B4DE-FA94D2B0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828-BE79-4EBB-9F47-32DAC2AA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488-5B35-4F12-A16B-5E5734E4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A2A-6462-4087-9687-FD5B70B1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4AA-8D59-4133-A707-2089B786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CC4-CE45-4ED8-8391-7E5C2074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4FE-46B2-4842-BC70-23CFDD12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844-D38F-46BD-81F2-A42D831F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669-4DA1-4508-873C-4683C29C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5A67-14AE-4AC9-B353-86135F6DF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bilidades de Inversión en Invernad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g. Carlos Zanatt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groindustrias Vida S.A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bco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Quién la pa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yo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rcado d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es y Recomend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ú dispone de ya de una tecnología competitiva y de bajo c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rece ventajas para superar barreras fitosanit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ia del personal cal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rse a mercad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los ejemplos extranjeros exit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car asociaciones comerciales para acelerar las economías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ción Unif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la 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nologías Involuc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 prod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uctura de la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es y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6320" y="1600200"/>
            <a:ext cx="299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s Extranjeras (España, Marruecos y Colomb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 Peruana (Sur y Norte Ch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Comerciales (Barreras Arancelarias y Fitosanita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Tecnológ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año Mínimo E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Hídricos, Técnicos y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trol Inte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Integ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Fitosa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Quí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ejo Técnico de la nutrición de la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especi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o Produ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 Hipotético de Tomate en Invernad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hect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Inverna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estructura acorde al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es pro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dos para el prime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2384280"/>
          <a:ext cx="403848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4280"/>
                    <a:ext cx="403848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5720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874240"/>
                <a:gridCol w="1163880"/>
              </a:tblGrid>
              <a:tr h="53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rv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 de R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pre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alidad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raestructura de Invernad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tación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hículos y Maqu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año (planilla + insum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0:51:42Z</dcterms:created>
  <dc:creator>Your User Name</dc:creator>
  <dc:description/>
  <dc:language>en-US</dc:language>
  <cp:lastModifiedBy>Your User Name</cp:lastModifiedBy>
  <dcterms:modified xsi:type="dcterms:W3CDTF">2004-01-29T12:40:38Z</dcterms:modified>
  <cp:revision>8</cp:revision>
  <dc:subject/>
  <dc:title>Posibilidades de Inversión en Invernaderos</dc:title>
</cp:coreProperties>
</file>