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9.jpeg" ContentType="image/jpeg"/>
  <Override PartName="/ppt/media/image11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32A-0137-46DE-9576-1B0CA7758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8607-72D5-463F-BCCF-00B5B4F7F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5AB5-9BDB-4FEC-B7F6-7C1FF85E9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2D05-0557-494B-BCEA-A8E9FDF99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6432-6818-43B5-B104-BA585EE2A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4C61-F5DA-4C60-8B40-0C54B360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6819-5952-4763-84A0-A05FCBD0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014BC-31E8-4879-A30B-C4A80AF5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5701-C202-4A10-8CF7-35B88EA78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14B-80BA-4D96-B61F-AA2B8BB16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52BA-77C5-4266-A988-95D09F020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3355-F298-4B0D-8CC6-AD0DB2F8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0822-7B51-49E7-A7E0-3FE7638A89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sibilidades de Inversión en Invernad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g. Carlos Zanatti 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groindustrias Vida S.A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ogís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Pr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Subcontr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¿Quién la pag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In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ayo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inor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ter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ercado d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d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ro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Transn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clusiones y Recomend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ú dispone de ya de una tecnología competitiva y de bajo cos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rece ventajas para superar barreras fitosanitari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mportancia del personal calific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ientarse a mercados internacion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aptar los ejemplos extranjeros exito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scar asociaciones comerciales para acelerar las economías de esca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ducción Unifor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648320" y="2525760"/>
            <a:ext cx="4038480" cy="26748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2525760"/>
            <a:ext cx="403848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¡Muchas Gracia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tenid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 la Pres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nologías Involucr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ceso produc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ructura de la Invers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ercializ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 y Recomendac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976320" y="1600200"/>
            <a:ext cx="29988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s Extranjeras (España, Marruecos y Colomb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eriencia Peruana (Sur y Norte Chic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Comerciales (Barreras Arancelarias y Fitosanitari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dencias Tecnológic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amaño Mínimo Efic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Recursos Hídricos, Técnicos y Hu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ontrol Integr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rol Integr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Fitosanitar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Bi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Quí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ol Cul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ándares Internacionales de C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cnología I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erti-rie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ejo Técnico de la nutrición de la pla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ware especializ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t-cosec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mpi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ceso Produc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01804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26920" y="1600200"/>
            <a:ext cx="3299040" cy="2185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825480" y="3938760"/>
            <a:ext cx="3301920" cy="21873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016600" y="3938760"/>
            <a:ext cx="330192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yecto Hipotético de Tomate en Invernade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ues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 hectá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Invernade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raestructura acorde al tam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es prome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dos para el primer añ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structura de Invers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648320" y="2384280"/>
          <a:ext cx="4038480" cy="2955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2384280"/>
                    <a:ext cx="4038480" cy="295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457200" y="1600200"/>
          <a:ext cx="4038120" cy="4525560"/>
        </p:xfrm>
        <a:graphic>
          <a:graphicData uri="http://schemas.openxmlformats.org/drawingml/2006/table">
            <a:tbl>
              <a:tblPr/>
              <a:tblGrid>
                <a:gridCol w="2874240"/>
                <a:gridCol w="1163880"/>
              </a:tblGrid>
              <a:tr h="5371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te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Coste 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erre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6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Reservor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1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Equipo de Rie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pre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3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ialidad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Infraestructura de Invernader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35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habilitación Inter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Vehículos y Maquinar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4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Gastos Operativ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x año (planilla + insumo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200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  <a:ea typeface="Arial"/>
                        </a:rPr>
                        <a:t>723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00:51:42Z</dcterms:created>
  <dc:creator>Your User Name</dc:creator>
  <dc:description/>
  <dc:language>en-US</dc:language>
  <cp:lastModifiedBy>Your User Name</cp:lastModifiedBy>
  <dcterms:modified xsi:type="dcterms:W3CDTF">2004-01-29T12:40:38Z</dcterms:modified>
  <cp:revision>8</cp:revision>
  <dc:subject/>
  <dc:title>Posibilidades de Inversión en Invernaderos</dc:title>
</cp:coreProperties>
</file>